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AC5-F3DD-434C-9BA3-0EAC836E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4D7-8792-41E1-861E-D7EC7B05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AE2-C360-4F9E-B518-D88B5609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D29-C06F-48E0-8A9C-8FB2FA09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53A-6295-411D-A323-876C5B22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D15-88D4-4578-978D-FBDEC1EE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12A-EA66-413E-8394-B17CCEBD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51F0-0ACF-441B-9FE1-EAC65422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FE5-99D6-4D20-97DA-103FF85D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6CE-233E-4D89-AFE2-3A860D81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F46-861C-47E7-AC14-E0B3BCBB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E74-826E-4CAD-8EF9-4CD5F8C3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DCA7-9455-45FA-9588-596B0343E5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30b58ea3"/>
          <p:cNvPicPr/>
          <p:nvPr/>
        </p:nvPicPr>
        <p:blipFill>
          <a:blip r:embed="rId2"/>
          <a:stretch/>
        </p:blipFill>
        <p:spPr>
          <a:xfrm>
            <a:off x="2411280" y="620640"/>
            <a:ext cx="3760920" cy="3551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30b58ea3"/>
          <p:cNvPicPr/>
          <p:nvPr/>
        </p:nvPicPr>
        <p:blipFill>
          <a:blip r:embed="rId3"/>
          <a:stretch/>
        </p:blipFill>
        <p:spPr>
          <a:xfrm>
            <a:off x="2428920" y="642960"/>
            <a:ext cx="3760920" cy="35510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2413080" y="5734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http://img-fotki.yandex.ru/get/5802/talana1959.11d/0_5733c_3ad1dc64_XL.jpg"/>
          <p:cNvPicPr/>
          <p:nvPr/>
        </p:nvPicPr>
        <p:blipFill>
          <a:blip r:embed="rId4"/>
          <a:stretch/>
        </p:blipFill>
        <p:spPr>
          <a:xfrm>
            <a:off x="357120" y="4430880"/>
            <a:ext cx="1785960" cy="175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ttp://img-fotki.yandex.ru/get/5802/talana1959.11d/0_5733c_3ad1dc64_XL.jpg"/>
          <p:cNvPicPr/>
          <p:nvPr/>
        </p:nvPicPr>
        <p:blipFill>
          <a:blip r:embed="rId5"/>
          <a:stretch/>
        </p:blipFill>
        <p:spPr>
          <a:xfrm rot="14835000">
            <a:off x="6503760" y="4495320"/>
            <a:ext cx="193176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87280" y="1599840"/>
            <a:ext cx="70567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родная пословица глас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облюдай режим труда и быта, будет здоровье крепче гранита»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7" descr="http://daru-vam-otkritku.ru/wp-content/uploads/2015/03/111505939_102899123_scrapangie_lilies_ele11.png"/>
          <p:cNvPicPr/>
          <p:nvPr/>
        </p:nvPicPr>
        <p:blipFill>
          <a:blip r:embed="rId1"/>
          <a:stretch/>
        </p:blipFill>
        <p:spPr>
          <a:xfrm>
            <a:off x="0" y="142920"/>
            <a:ext cx="2751120" cy="192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daru-vam-otkritku.ru/wp-content/uploads/2015/03/111505939_102899123_scrapangie_lilies_ele11.png"/>
          <p:cNvPicPr/>
          <p:nvPr/>
        </p:nvPicPr>
        <p:blipFill>
          <a:blip r:embed="rId2"/>
          <a:stretch/>
        </p:blipFill>
        <p:spPr>
          <a:xfrm>
            <a:off x="6392880" y="4643280"/>
            <a:ext cx="2751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16000" y="2060280"/>
            <a:ext cx="71280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родная мудрость гласит: «Дерево держится своими корнями, а человек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ищей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258920" y="1989000"/>
            <a:ext cx="6913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народе говоря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Эта девочка красивая, как берёзка, а мальчик стройный, как тополё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26920" y="1600200"/>
            <a:ext cx="73454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олотое прави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щения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Относись к окружающим так, как хочешь, что бы они относились к тебе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http://daru-vam-otkritku.ru/wp-content/uploads/2015/03/111505939_102899123_scrapangie_lilies_ele11.png"/>
          <p:cNvPicPr/>
          <p:nvPr/>
        </p:nvPicPr>
        <p:blipFill>
          <a:blip r:embed="rId1"/>
          <a:stretch/>
        </p:blipFill>
        <p:spPr>
          <a:xfrm>
            <a:off x="0" y="0"/>
            <a:ext cx="2751120" cy="1928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daru-vam-otkritku.ru/wp-content/uploads/2015/03/111505939_102899123_scrapangie_lilies_ele11.png"/>
          <p:cNvPicPr/>
          <p:nvPr/>
        </p:nvPicPr>
        <p:blipFill>
          <a:blip r:embed="rId2"/>
          <a:stretch/>
        </p:blipFill>
        <p:spPr>
          <a:xfrm>
            <a:off x="6392880" y="4643280"/>
            <a:ext cx="2751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6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30b58ea3"/>
          <p:cNvPicPr/>
          <p:nvPr/>
        </p:nvPicPr>
        <p:blipFill>
          <a:blip r:embed="rId2"/>
          <a:stretch/>
        </p:blipFill>
        <p:spPr>
          <a:xfrm>
            <a:off x="2195640" y="765000"/>
            <a:ext cx="41925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20:05Z</dcterms:created>
  <dc:creator>марина</dc:creator>
  <dc:description/>
  <dc:language>en-US</dc:language>
  <cp:lastModifiedBy>Карина</cp:lastModifiedBy>
  <dcterms:modified xsi:type="dcterms:W3CDTF">2017-04-08T20:33:08Z</dcterms:modified>
  <cp:revision>76</cp:revision>
  <dc:subject/>
  <dc:title>Заголовок слайда</dc:title>
</cp:coreProperties>
</file>